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1 Бионео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(III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)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едар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цитомаркери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електронској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микроскоп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II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ар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0)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Horizontal Scroll 3"/>
          <p:cNvSpPr/>
          <p:nvPr/>
        </p:nvSpPr>
        <p:spPr>
          <a:xfrm>
            <a:off x="900000" y="1197000"/>
            <a:ext cx="7775640" cy="4103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(II)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едијера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е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II)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(IV)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ј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484360" y="3068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реуматског</a:t>
            </a:r>
            <a:r>
              <a:rPr b="0" i="1" lang="sr-Latn-C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артрит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то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)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у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ар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а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за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Sanocrysi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е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дгенс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т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зрок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а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ж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з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farmacija 1\Slike\Au.jpg"/>
          <p:cNvPicPr/>
          <p:nvPr/>
        </p:nvPicPr>
        <p:blipFill>
          <a:blip r:embed="rId1"/>
          <a:srcRect l="22966" t="25543" r="6740" b="34375"/>
          <a:stretch/>
        </p:blipFill>
        <p:spPr>
          <a:xfrm>
            <a:off x="1785960" y="2492280"/>
            <a:ext cx="5450040" cy="4032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337840" y="64882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који се користе парентер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2556000" y="981000"/>
          <a:ext cx="1876320" cy="12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981000"/>
                    <a:ext cx="187632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6"/>
          <p:cNvGraphicFramePr/>
          <p:nvPr/>
        </p:nvGraphicFramePr>
        <p:xfrm>
          <a:off x="4859280" y="981000"/>
          <a:ext cx="1368360" cy="123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981000"/>
                    <a:ext cx="13683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Box 6"/>
          <p:cNvSpPr/>
          <p:nvPr/>
        </p:nvSpPr>
        <p:spPr>
          <a:xfrm>
            <a:off x="4742280" y="220500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 -ауротиомал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762280" y="21337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ро-тиоглук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проналажења комплекса који ће имати мању токсичност приликом лечења реуматског артритиса у односу на тиолато-злато(I)-комплексе синтетисани су различити фосфински комплекси злата(I) и испитивана њихова антиинфламаторна актив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[AuCl(P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и [AuCl(P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показују значајну антиимфламаторну активност али изазивају и неке токсичне ефе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:\farmacija 1\Slike\Au.jpg"/>
          <p:cNvPicPr/>
          <p:nvPr/>
        </p:nvPicPr>
        <p:blipFill>
          <a:blip r:embed="rId1"/>
          <a:srcRect l="32446" t="67711" r="17537" b="23959"/>
          <a:stretch/>
        </p:blipFill>
        <p:spPr>
          <a:xfrm>
            <a:off x="971640" y="3573360"/>
            <a:ext cx="7601040" cy="1641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0" y="1484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ранофин – ридаура (орални начин приме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,6-тетра-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цетил-1-тио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-глукопиранозато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етилфосфин)злато(I)-комп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945360" y="566100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резултата рендгенске структурне анализе потврђена је линеар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лекса и у чв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 стању мономерни облик овог 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ранофин се уноси у организам орално у дневним дозама које садрже од 3 до 6 mg з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примене ауранофина, адсорпција злата у организму зависи од начина његовог доз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комплекс дозира у чврстом стању после 24 сата проценат апсорбованог злата у организму је 20-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даје у облику етанолног раствора онда је апсорпција злата у току 24 сата потпу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Фосфински комплекси А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који се уносе ор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комплекс даје у чврстом стању, након 24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ина апсорбованог злата у организму је око 20-25%, а ако се даје у облику етанолног раствора, апсорбција у току 24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комплет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3"/>
          <p:cNvGraphicFramePr/>
          <p:nvPr/>
        </p:nvGraphicFramePr>
        <p:xfrm>
          <a:off x="1547640" y="2060640"/>
          <a:ext cx="585504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060640"/>
                    <a:ext cx="58550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уматс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рити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с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албум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ве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4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63 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пе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троци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пепти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милцистеинилглици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ов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и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реуматс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Комплексна једињења злата и бизм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484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н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мет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89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фили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21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з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отеап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нит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ов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си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бизмут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субнит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бизмут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салицил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SS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бизмут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субцитра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BS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у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-субцитратни јединични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2928960" y="3233880"/>
          <a:ext cx="315576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233880"/>
                    <a:ext cx="315576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041.jpg"/>
          <p:cNvPicPr/>
          <p:nvPr/>
        </p:nvPicPr>
        <p:blipFill>
          <a:blip r:embed="rId1"/>
          <a:stretch/>
        </p:blipFill>
        <p:spPr>
          <a:xfrm>
            <a:off x="571680" y="857160"/>
            <a:ext cx="311616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635280" y="981000"/>
            <a:ext cx="507708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S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уклеар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(III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унс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рој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уклеар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ова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7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рактериса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дгенск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ће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ар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ц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= 2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шал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(III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рој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рат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и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ами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тид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метид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ато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ав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тид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BS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ти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684360" y="3068640"/>
          <a:ext cx="7662600" cy="15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68640"/>
                    <a:ext cx="766260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рат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љ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ц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т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iOCl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и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окож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аг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ач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у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ђ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тич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ед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тич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(III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с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р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icobacter pyl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филич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у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ти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по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цитр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а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терап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tpa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ентриаминпентаацет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терап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аптопур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гуан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б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714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кси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0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ch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беркулоз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(CN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25-1935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ЗЛАТНА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ДЕКА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69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РЕУМАТСКОГ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АРТРИТИ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1116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им стањима </a:t>
            </a:r>
            <a:r>
              <a:rPr b="0" lang="sr-Latn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+1 </a:t>
            </a:r>
            <a:r>
              <a:rPr b="0" lang="sr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+3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+2 </a:t>
            </a:r>
            <a:r>
              <a:rPr b="0" lang="sr-C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+5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(I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инит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инит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им” базама тј. лигандима који као донорске атоме садрж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 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II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Cl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(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ж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испропорционис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Au(I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Au(III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2Au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диспропорционисања се одвија 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viv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елим крвним ћелиј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комплекса злат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же се повећати увођењем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ских лиганада, који са злато(I)-јоном граде додатну координативно-ковалентну ве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колоидног злата у 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628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злата је од 0,5 nm до 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медицинским и биолошким истраживањ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и облик зависе од начина добиј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колоидног злата може бити различита (црвена, плава и љубича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вршини честице је негативно наелектрисање преко кога се ова честица везује за проте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љујући таквој структури честице колоидно злато се користи у дијагностици и лечењу различитих врста тум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злата обложене туморским антителима везују се за ћелије тумора које добијају златни одсјај и могу се врло лако разликовати од здравих ћел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снији снимак јетре се може добити тако што се у ткиво убризга колоид радиоактивног изотопа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9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зметици се користе третмани са колоидним златом за обнову зреле коже јер елиминишу мрље и имају изванредне ефекте у подизању тонуса ко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6T10:42:17Z</dcterms:modified>
  <cp:revision>128</cp:revision>
  <dc:subject/>
  <dc:title>Slide 1</dc:title>
</cp:coreProperties>
</file>